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17F-1B88-4005-9DDF-60E2939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676-72D1-4BEC-875D-0BD6DB5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FE5-22E1-4D3C-8A59-6662046C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AC6-6CBF-460D-A7F6-C3CCE912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8AC4-4473-4C0D-8B8B-14D3D9C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551-6EBA-4647-A3E9-E1D09420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3006-815E-473E-B57A-2A083E7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492-FEE1-4A18-B17D-953E805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E84D-1AC3-4A5E-85DA-134174E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B2DC-CBAE-45C4-99F3-E04CD47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F206-E991-43A4-890C-D3F1018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BD4-6CB3-48C7-A47A-C2FFCC60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5746-562B-4327-ADB5-FE2A02C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1C0-4DD5-402C-A5EB-B257A1A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D248-5724-4803-8E92-42C05CC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DD7-2D1C-4CE2-A0E3-86C8BC04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09E-D2D1-4F8D-A1A7-347F943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7A0D-A41F-4A82-B7E4-EF8FEB66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2CD3-38E2-4746-BA3F-4EBD1D1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8717-175B-45D8-9533-9C917B4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A582-2BBB-4C8D-A0E3-C156391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6354-6C56-4D4A-8975-61FAA8C6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903-0DF1-40E0-B51F-4485119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8F06-59E2-4E03-900F-847C4801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28A9-AFE1-43DD-92D8-EFF0BD0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A93F-0BF6-40B4-97B7-A2F3215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DBFF-9AE8-4776-9521-9F15F84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5A26-82E1-4145-A369-6A5A9455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5A9C-A6AA-428B-932C-2368065D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CE0A-4723-4FF1-87CA-629CCDD9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4197-D5B8-4EB2-B1C4-6283A41A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DD30-0F92-4ABE-AD30-09CAE30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0FAA-4C49-4AD9-8055-F27F102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ECE-BBA9-4653-BDEF-BCBD0020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BB5B-2D0B-4532-9BF3-A5EEE11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E920-9A87-4E32-B766-6363BBA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0273-077A-426D-9902-25DA9C65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16F0-C974-46EB-9E38-21C65C3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81CF-30EA-4510-8BDF-3B02A32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69AF-FDD1-40E8-9987-661F556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CE6F-BFAA-4A26-9809-73BBBB0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A472-4E92-486D-BD17-F95C4156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ACEB-CBB6-41B9-8595-3348D921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07A3-70B5-46EE-BC99-4E9ABB1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A1B-F2C7-42C5-8207-EA6332D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86EF-D5E3-4F75-9AF6-17394109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CF9C-4BE6-48B7-8A7A-1878B7B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BDD4-A86A-45E7-AB52-3F94BBE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FFF0-DFBA-4EA3-8011-529FB2D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25A81-84D2-4584-B1E0-B5EE2C4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2242-93B7-4B14-91A3-7F5A4CB4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8AC84-52C9-4975-9950-5A001B7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DB39-BE0C-42AC-8BC8-52F073D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09D4-00E8-4F5C-945C-4FC55A90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829A-234E-48B2-850A-874EF83C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AA2-7284-4EF3-8680-2E9CAC3F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9D32-9D7A-47A0-A7BB-EB242373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25E-70DA-4645-98EC-003FB74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5E1-9F45-415B-93EB-86A72E6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A9F-6F96-4CDD-B3E1-CBD1A23A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0B0C-AC95-4FD2-B21C-EAC406CF8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87440" y="1376280"/>
            <a:ext cx="8213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5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1" marL="357120" indent="-357120" algn="just">
              <a:spcBef>
                <a:spcPts val="1599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2" marL="11430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3" marL="16002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4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5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6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1C7-9BA0-4C1F-AC61-1AAF4A78D59B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0" y="573120"/>
            <a:ext cx="9161640" cy="62388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04360" y="448920"/>
            <a:ext cx="82234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5" descr=""/>
          <p:cNvPicPr/>
          <p:nvPr/>
        </p:nvPicPr>
        <p:blipFill>
          <a:blip r:embed="rId3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104B-386A-474A-ADBE-E90863F65751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4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92" name="任意多边形 14"/>
          <p:cNvSpPr/>
          <p:nvPr/>
        </p:nvSpPr>
        <p:spPr>
          <a:xfrm>
            <a:off x="14400" y="733320"/>
            <a:ext cx="9129600" cy="36684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9129932" h="366639">
                <a:moveTo>
                  <a:pt x="0" y="169623"/>
                </a:moveTo>
                <a:cubicBezTo>
                  <a:pt x="225083" y="243478"/>
                  <a:pt x="450166" y="317334"/>
                  <a:pt x="858129" y="310300"/>
                </a:cubicBezTo>
                <a:cubicBezTo>
                  <a:pt x="1266092" y="303266"/>
                  <a:pt x="1885070" y="118042"/>
                  <a:pt x="2447778" y="127420"/>
                </a:cubicBezTo>
                <a:cubicBezTo>
                  <a:pt x="3010486" y="136798"/>
                  <a:pt x="3685735" y="371259"/>
                  <a:pt x="4234375" y="366570"/>
                </a:cubicBezTo>
                <a:cubicBezTo>
                  <a:pt x="4783015" y="361881"/>
                  <a:pt x="5258972" y="125075"/>
                  <a:pt x="5739618" y="99284"/>
                </a:cubicBezTo>
                <a:cubicBezTo>
                  <a:pt x="6220264" y="73493"/>
                  <a:pt x="6698566" y="225894"/>
                  <a:pt x="7118252" y="211826"/>
                </a:cubicBezTo>
                <a:cubicBezTo>
                  <a:pt x="7537938" y="197758"/>
                  <a:pt x="7922455" y="45358"/>
                  <a:pt x="8257735" y="14878"/>
                </a:cubicBezTo>
                <a:cubicBezTo>
                  <a:pt x="8593015" y="-15602"/>
                  <a:pt x="8861473" y="6672"/>
                  <a:pt x="9129932" y="28946"/>
                </a:cubicBezTo>
              </a:path>
            </a:pathLst>
          </a:cu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0" y="573120"/>
            <a:ext cx="9161640" cy="62388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 flipV="1">
            <a:off x="0" y="-720"/>
            <a:ext cx="9144000" cy="770040"/>
          </a:xfrm>
          <a:custGeom>
            <a:avLst/>
            <a:gdLst>
              <a:gd name="textAreaLeft" fmla="*/ 0 w 9144000"/>
              <a:gd name="textAreaRight" fmla="*/ 9144360 w 9144000"/>
              <a:gd name="textAreaTop" fmla="*/ -360 h 770040"/>
              <a:gd name="textAreaBottom" fmla="*/ 770040 h 77004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1" descr=""/>
          <p:cNvPicPr/>
          <p:nvPr/>
        </p:nvPicPr>
        <p:blipFill>
          <a:blip r:embed="rId4"/>
          <a:stretch/>
        </p:blipFill>
        <p:spPr>
          <a:xfrm>
            <a:off x="0" y="396720"/>
            <a:ext cx="9144000" cy="438012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12"/>
          <p:cNvSpPr/>
          <p:nvPr/>
        </p:nvSpPr>
        <p:spPr>
          <a:xfrm>
            <a:off x="0" y="399960"/>
            <a:ext cx="9144000" cy="0"/>
          </a:xfrm>
          <a:prstGeom prst="line">
            <a:avLst/>
          </a:prstGeom>
          <a:ln w="38160">
            <a:solidFill>
              <a:srgbClr val="00a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4518000"/>
            <a:ext cx="9161640" cy="12207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87440" y="1376280"/>
            <a:ext cx="8213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5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1" marL="357120" indent="-357120" algn="just">
              <a:spcBef>
                <a:spcPts val="1599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2" marL="11430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3" marL="16002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4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5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6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04360" y="448920"/>
            <a:ext cx="82234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7A8E-340E-4404-9EC8-C1B41273ED8B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5" descr=""/>
          <p:cNvPicPr/>
          <p:nvPr/>
        </p:nvPicPr>
        <p:blipFill>
          <a:blip r:embed="rId3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177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3" descr=""/>
          <p:cNvPicPr/>
          <p:nvPr/>
        </p:nvPicPr>
        <p:blipFill>
          <a:blip r:embed="rId4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179" name="任意多边形 14"/>
          <p:cNvSpPr/>
          <p:nvPr/>
        </p:nvSpPr>
        <p:spPr>
          <a:xfrm>
            <a:off x="14400" y="733320"/>
            <a:ext cx="9129600" cy="36684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9129932" h="366639">
                <a:moveTo>
                  <a:pt x="0" y="169623"/>
                </a:moveTo>
                <a:cubicBezTo>
                  <a:pt x="225083" y="243478"/>
                  <a:pt x="450166" y="317334"/>
                  <a:pt x="858129" y="310300"/>
                </a:cubicBezTo>
                <a:cubicBezTo>
                  <a:pt x="1266092" y="303266"/>
                  <a:pt x="1885070" y="118042"/>
                  <a:pt x="2447778" y="127420"/>
                </a:cubicBezTo>
                <a:cubicBezTo>
                  <a:pt x="3010486" y="136798"/>
                  <a:pt x="3685735" y="371259"/>
                  <a:pt x="4234375" y="366570"/>
                </a:cubicBezTo>
                <a:cubicBezTo>
                  <a:pt x="4783015" y="361881"/>
                  <a:pt x="5258972" y="125075"/>
                  <a:pt x="5739618" y="99284"/>
                </a:cubicBezTo>
                <a:cubicBezTo>
                  <a:pt x="6220264" y="73493"/>
                  <a:pt x="6698566" y="225894"/>
                  <a:pt x="7118252" y="211826"/>
                </a:cubicBezTo>
                <a:cubicBezTo>
                  <a:pt x="7537938" y="197758"/>
                  <a:pt x="7922455" y="45358"/>
                  <a:pt x="8257735" y="14878"/>
                </a:cubicBezTo>
                <a:cubicBezTo>
                  <a:pt x="8593015" y="-15602"/>
                  <a:pt x="8861473" y="6672"/>
                  <a:pt x="9129932" y="28946"/>
                </a:cubicBezTo>
              </a:path>
            </a:pathLst>
          </a:cu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0" descr=""/>
          <p:cNvPicPr/>
          <p:nvPr/>
        </p:nvPicPr>
        <p:blipFill>
          <a:blip r:embed="rId5"/>
          <a:stretch/>
        </p:blipFill>
        <p:spPr>
          <a:xfrm>
            <a:off x="782640" y="0"/>
            <a:ext cx="7875720" cy="4608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419-B04C-4221-BFDD-664E5626630A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矩形 1" descr=""/>
          <p:cNvPicPr/>
          <p:nvPr/>
        </p:nvPicPr>
        <p:blipFill>
          <a:blip r:embed="rId1"/>
          <a:stretch/>
        </p:blipFill>
        <p:spPr>
          <a:xfrm>
            <a:off x="1633680" y="2309760"/>
            <a:ext cx="5657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2808360" y="2638440"/>
            <a:ext cx="42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Let's 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41"/>
          <p:cNvPicPr/>
          <p:nvPr/>
        </p:nvPicPr>
        <p:blipFill>
          <a:blip r:embed="rId1"/>
          <a:stretch/>
        </p:blipFill>
        <p:spPr>
          <a:xfrm>
            <a:off x="1619280" y="2276640"/>
            <a:ext cx="5406840" cy="2879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 1: What’s the boy’s name? Who is Jack? What is Jack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332000" y="2924280"/>
            <a:ext cx="2087640" cy="431640"/>
          </a:xfrm>
          <a:prstGeom prst="wedgeRoundRectCallout">
            <a:avLst>
              <a:gd name="adj1" fmla="val 34060"/>
              <a:gd name="adj2" fmla="val 151912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ere you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5219640" y="1989000"/>
            <a:ext cx="2879640" cy="720720"/>
          </a:xfrm>
          <a:prstGeom prst="cloudCallout">
            <a:avLst>
              <a:gd name="adj1" fmla="val -46856"/>
              <a:gd name="adj2" fmla="val 133699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anks J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84360" y="5516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John and his dog, Jack, are good friends. They play toge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24000" y="18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2: What’s John doing? When does he brush his teeth?   What does Jack do while John brushes his tee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042"/>
          <p:cNvPicPr/>
          <p:nvPr/>
        </p:nvPicPr>
        <p:blipFill>
          <a:blip r:embed="rId1"/>
          <a:stretch/>
        </p:blipFill>
        <p:spPr>
          <a:xfrm>
            <a:off x="2340000" y="1628640"/>
            <a:ext cx="5329080" cy="38894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044720" y="1989000"/>
            <a:ext cx="3095640" cy="503280"/>
          </a:xfrm>
          <a:prstGeom prst="wedgeRoundRectCallout">
            <a:avLst>
              <a:gd name="adj1" fmla="val 40254"/>
              <a:gd name="adj2" fmla="val 94162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rush, brush, bru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1280" y="573264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the morning, 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rushes his teet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ashes his fa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Jack watches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943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Picture3: What do you see in this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pictur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? 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33" name="Picture 3" descr="043"/>
          <p:cNvPicPr/>
          <p:nvPr/>
        </p:nvPicPr>
        <p:blipFill>
          <a:blip r:embed="rId1"/>
          <a:stretch/>
        </p:blipFill>
        <p:spPr>
          <a:xfrm>
            <a:off x="1403280" y="2133720"/>
            <a:ext cx="5616720" cy="30160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4"/>
          <p:cNvSpPr/>
          <p:nvPr/>
        </p:nvSpPr>
        <p:spPr>
          <a:xfrm>
            <a:off x="5437080" y="1773360"/>
            <a:ext cx="3382920" cy="1225440"/>
          </a:xfrm>
          <a:prstGeom prst="cloudCallout">
            <a:avLst>
              <a:gd name="adj1" fmla="val -52287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’s have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1187280" y="3357720"/>
            <a:ext cx="1440000" cy="43164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63640" y="5661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ave breakfa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68360" y="404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4: What do they do in the aftern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044"/>
          <p:cNvPicPr/>
          <p:nvPr/>
        </p:nvPicPr>
        <p:blipFill>
          <a:blip r:embed="rId1"/>
          <a:stretch/>
        </p:blipFill>
        <p:spPr>
          <a:xfrm>
            <a:off x="2268360" y="2276640"/>
            <a:ext cx="4397400" cy="273348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5940360" y="1844640"/>
            <a:ext cx="2486160" cy="57636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’s 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044720" y="3213000"/>
            <a:ext cx="1439640" cy="43200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530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the afternoon, 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oes ho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with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icture5: What is the boy playing with? When?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045"/>
          <p:cNvPicPr/>
          <p:nvPr/>
        </p:nvPicPr>
        <p:blipFill>
          <a:blip r:embed="rId1"/>
          <a:stretch/>
        </p:blipFill>
        <p:spPr>
          <a:xfrm>
            <a:off x="1258920" y="1700280"/>
            <a:ext cx="5184720" cy="33112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4"/>
          <p:cNvSpPr/>
          <p:nvPr/>
        </p:nvSpPr>
        <p:spPr>
          <a:xfrm>
            <a:off x="4572000" y="1413000"/>
            <a:ext cx="1909800" cy="57600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11280" y="5589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Saturday, they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lay catch with a bal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John throws the b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68360" y="227664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icture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is Jack? W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ck doing in picture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79280" y="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icture8: What do you see in the picture? Are they happy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046"/>
          <p:cNvPicPr/>
          <p:nvPr/>
        </p:nvPicPr>
        <p:blipFill>
          <a:blip r:embed="rId1"/>
          <a:stretch/>
        </p:blipFill>
        <p:spPr>
          <a:xfrm>
            <a:off x="468360" y="1844640"/>
            <a:ext cx="6408720" cy="3816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"/>
          <p:cNvSpPr/>
          <p:nvPr/>
        </p:nvSpPr>
        <p:spPr>
          <a:xfrm>
            <a:off x="4427640" y="1557360"/>
            <a:ext cx="3240000" cy="1079640"/>
          </a:xfrm>
          <a:prstGeom prst="cloudCallout">
            <a:avLst>
              <a:gd name="adj1" fmla="val -59407"/>
              <a:gd name="adj2" fmla="val 71615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t’s help the little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3280" y="3716280"/>
            <a:ext cx="1440000" cy="576360"/>
          </a:xfrm>
          <a:prstGeom prst="wedgeRoundRectCallout">
            <a:avLst>
              <a:gd name="adj1" fmla="val -71166"/>
              <a:gd name="adj2" fmla="val 67078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k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26920" y="5661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u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little bir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n the tree. Then he and Jack go home happi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916360" y="549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79280" y="1844640"/>
            <a:ext cx="8785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1)What does John do in the morn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What does Jack do in the morn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2)What do they do on Satu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3)What do they see in the gras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4)What do they do t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0:13:36Z</dcterms:created>
  <dc:creator/>
  <dc:description/>
  <cp:keywords/>
  <dc:language>en-US</dc:language>
  <cp:lastModifiedBy/>
  <dcterms:modified xsi:type="dcterms:W3CDTF">2016-08-23T07:39:5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